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680A-3BAF-42CE-B4C1-F4BD26667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BB7B-FE88-4B2E-9081-CB1D6365E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CF80-D8CB-4E65-A5ED-5C97B45F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76E5-C78C-4E37-8AA6-43AA5D1B8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40A0-A863-4554-B2F7-084230197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5492-B867-4AB1-A10F-3233D9C28F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B314F-3C65-4484-95FF-267BD8912C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1CEB3-279E-4EBC-8037-E6ABF46A80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B186-7C89-4378-835A-B16FE03C6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DA60-5381-49CB-9D55-BCFF2C52B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24031-29A3-4F5C-9C7F-8F5E08BEA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FDC3-4A87-4792-82B9-96C5288C1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55E7D-6997-4673-B6E8-E01E2A6A12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CC46-088E-4D99-9084-B6163CB650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1E7A-7461-4E5E-A999-71F94709D3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C1CE9-E125-458D-B03E-0B055F5CA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1D08-132A-426A-A4D8-A529FC663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7A55-A18C-479F-91BE-FCA7312BD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DA7A-E0D4-4AED-A75F-6F72B0B43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B89F-9DCE-403F-A505-CEA744B6E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7BB2-5DCD-4CCE-BF9C-62771783A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2D86-6660-4086-B180-23627C065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683A-258D-43B1-8C66-8B56402C8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9DDA-818B-4E8C-9F66-A072C62F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33C4-B6AC-4701-BD29-20BB2DF792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73C-FEFD-41C0-932E-88A1DC6550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sing the Diagram It Templat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py this presentation to your hard dr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re are two sets of templat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lides #3 &amp; 4 for a flow char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lides #5 &amp; 6 for a components exerci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 up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lide sort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copy either set of slides for each diagram you are going to construc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 to the first slide of the set and enter the text of the starting te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 to the second slide of the set and put the answer text in each bo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ete this slide (slide #1) after you are do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ve this fi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te: You may also use your own symbols or design your own diagram for your exercis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60b4"/>
                </a:solidFill>
                <a:latin typeface="Tahoma"/>
              </a:rPr>
              <a:t>DIAGRAM IT!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62320" y="2817720"/>
            <a:ext cx="4876560" cy="404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295280"/>
            <a:ext cx="6248520" cy="1371600"/>
          </a:xfrm>
          <a:prstGeom prst="parallelogram">
            <a:avLst>
              <a:gd name="adj" fmla="val 113891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 for the Titl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Flowchar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971800"/>
            <a:ext cx="274320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6668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971800"/>
            <a:ext cx="24382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66688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44197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4240" y="2133720"/>
            <a:ext cx="1622520" cy="577080"/>
          </a:xfrm>
          <a:prstGeom prst="rect">
            <a:avLst/>
          </a:prstGeom>
          <a:noFill/>
          <a:ln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371600"/>
            <a:ext cx="6477120" cy="1371600"/>
          </a:xfrm>
          <a:prstGeom prst="parallelogram">
            <a:avLst>
              <a:gd name="adj" fmla="val 118058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nter Text for Titl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 the Flowchar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048120"/>
            <a:ext cx="274320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30481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0481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4495680"/>
            <a:ext cx="0" cy="15264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9600" y="6400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nter Topic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1480" y="1981080"/>
            <a:ext cx="1736640" cy="520560"/>
          </a:xfrm>
          <a:prstGeom prst="rect">
            <a:avLst/>
          </a:prstGeom>
          <a:noFill/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pic Text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7720" y="6095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dmungai</cp:lastModifiedBy>
  <dcterms:modified xsi:type="dcterms:W3CDTF">2002-06-22T22:45:50Z</dcterms:modified>
  <cp:revision>14</cp:revision>
  <dc:subject/>
  <dc:title>LABEL A DIAGRAM</dc:title>
</cp:coreProperties>
</file>